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8C3-21D5-4D3A-B13C-E8410C1E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F08-5B56-42C7-986E-E13731D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5BC-E9AE-4C4D-80D9-281149AC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768-349E-44EC-9748-46821A2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0B4-BCC3-4031-A1ED-6D0D52B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B23-6D93-494B-BA67-28A69DE7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CA4-1667-4B7E-B3E4-F5AC92B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683-D404-40F9-A521-AEC3937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53C-F4C9-4793-9873-F075929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205-D43E-486A-AECC-8C2A63C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E67-2B0B-43B2-81F7-259A3FF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522-F805-4A2A-BB37-7109E18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1D69-D6EF-48F6-8821-952769C8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836640"/>
            <a:ext cx="777708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иагностическая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амостоятель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работ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85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1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два смежных угла быть оба острыми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1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два смежных угла быть оба тупыми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7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11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угол, смежный с углом 57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вариан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11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угол, смежный с углом 134</a:t>
                      </a:r>
                      <a:r>
                        <a:rPr b="1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7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вариант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смежные углы, если один из них в 2 раза больше другого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вариант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смежные углы, если один из них в 3 раза меньше другого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-83808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ему равен неизвестный уго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900000" y="5084640"/>
            <a:ext cx="345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2484360" y="2491920"/>
            <a:ext cx="2305080" cy="2592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2843280" y="4724280"/>
            <a:ext cx="336600" cy="36036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278520" y="438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rc 13"/>
          <p:cNvSpPr/>
          <p:nvPr/>
        </p:nvSpPr>
        <p:spPr>
          <a:xfrm flipV="1" rot="10611600">
            <a:off x="2050560" y="4572720"/>
            <a:ext cx="885960" cy="50508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14"/>
          <p:cNvSpPr/>
          <p:nvPr/>
        </p:nvSpPr>
        <p:spPr>
          <a:xfrm flipH="1">
            <a:off x="2123280" y="4653000"/>
            <a:ext cx="730440" cy="43344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2053080" y="40752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127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5365800" y="5084640"/>
            <a:ext cx="3240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 flipH="1">
            <a:off x="6660720" y="2492280"/>
            <a:ext cx="1871640" cy="2592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19"/>
          <p:cNvSpPr/>
          <p:nvPr/>
        </p:nvSpPr>
        <p:spPr>
          <a:xfrm flipH="1" rot="553200">
            <a:off x="6224400" y="4722840"/>
            <a:ext cx="576000" cy="36036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942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7525440" y="414972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56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Arial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794120"/>
            <a:ext cx="7632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вариант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9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смежные углы, если один из них на 20</a:t>
                      </a:r>
                      <a:r>
                        <a:rPr b="1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 другого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вариант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29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смежные углы, если один из них на 40</a:t>
                      </a:r>
                      <a:r>
                        <a:rPr b="1" lang="en-US" sz="4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е другого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fe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4794120"/>
            <a:ext cx="76327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2х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х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=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 12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х-20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=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=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 8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3х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х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=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 135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х+40=1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=1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=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75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 110</a:t>
                      </a:r>
                      <a:r>
                        <a:rPr b="1" lang="en-US" sz="32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20:08:36Z</dcterms:created>
  <dc:creator>СЕРГЕЙ</dc:creator>
  <dc:description/>
  <dc:language>en-US</dc:language>
  <cp:lastModifiedBy>Unknown</cp:lastModifiedBy>
  <dcterms:modified xsi:type="dcterms:W3CDTF">2009-11-30T03:09:59Z</dcterms:modified>
  <cp:revision>16</cp:revision>
  <dc:subject/>
  <dc:title>Слайд 1</dc:title>
</cp:coreProperties>
</file>